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021-AD5D-4348-9F45-D52CC051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B7C-EC1E-43E7-AFED-39F42402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5A233-6B09-454C-9E09-E26D5E7F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9D265-2453-4A51-A1B1-2523CBD2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6AB14-3F84-4A4E-B299-1C4C7970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4061B-9414-4AD8-8CFD-5D09C13B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732C4-3F18-4285-8F9A-29D1A1D2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96F2E-5BE7-478B-B693-5FD34BDE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BCAF3-CB20-4947-B17B-6339C85E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9DEB1-6AAB-4C2B-BDF9-8DD34514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BF545-9306-4B1E-9634-D79BF568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62E50-1CC9-43DD-8E0C-BB18395B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D5D-EB21-4F4A-82A9-A93F82FE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B0142-6D24-41EA-9275-F336D626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7BBC7-671E-45A1-B26E-4236E089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35871-52C2-4374-9C53-D12A9EDC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5F4B4-6725-4555-A35A-C28055FF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22BF3-5AC9-47D0-9346-F8167D7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0F98D-32AB-4FF2-A374-5216238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8276E-3356-4B1A-A801-BD18C4D3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99209-5578-402E-A1B6-1C92A76E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ADC72-DBE9-4C15-9D9C-4E9694E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30528-D21F-4EA2-A659-50B438E6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3B8-6165-42E3-80CC-5C0297BF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CFD01-E68E-48E4-89AD-7870AE46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2FEC4-F50A-444F-9B46-20E6B6A4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D15D4-50E2-4723-A271-48B89FED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2F692-007B-41A6-9F66-410D316D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37335-0F9A-4DAF-A02D-3BC291B5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B3F94-83F6-4DEB-B6D5-ADF3A986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766CA-DEA2-4845-8DD8-D28DC2B9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6F3B0-84FE-4357-943C-22FB475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C4020-031C-4BD5-A267-5A359B9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BD389-F40A-4AA0-88A8-D2165DD8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B790-24BD-419D-ABBF-8B99630D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C13E3-6B67-4E72-81D2-274EC96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A0B1F-8A09-447B-B84A-B109B83F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14A8D-83BE-4E97-A154-0D61341D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A0EC7-B54E-4A33-8291-7ECDAEFD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32D6C-B288-4420-A6A7-1E682A8A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5651E-DCD2-4A5D-84C0-A6A212B8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8CD43-DE96-4BD1-B3B0-8EB068BF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0E6B3-F02C-4D09-A961-61E4D1B0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5DCD2-7E2D-46FA-B114-EA3DB7DC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2D5C1-F72C-471D-8BA2-9DD05284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2076-0220-441E-871D-297BB13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0BB44-4D14-4D71-9ACF-9735D752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2A238-2F80-4278-BE0F-64BFB015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76C9E-531E-4B4C-9E87-AC0F2967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118A3-62C7-4E02-A5B3-C943E007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27B87-BEDD-4B4B-9925-A0401B63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6187A-EF35-435A-98BD-F3CDF711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D223E-2082-4A30-B686-DFF5F29F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3D49B-F38F-4CA9-AC76-4102C72A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65E1D-88BB-4D1C-A7E0-EA969C0A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834D5-EF3B-4C88-A981-725481D8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C8A6-B92A-40FC-B68C-FE5BD3E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13B4A-DC13-4B83-A57B-C8F787B4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53DCE-5426-4717-9394-C21BACFB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ED36D-5885-4FCE-B32D-D0C84752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6EB4D-6480-4FC7-8067-71C2E78F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CE791-1920-452C-A982-B25BC999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31DC1-0178-41BA-840C-193CEC0B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E5A2D-6E66-481F-81AC-2DAB9E29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A16B5-A598-45AB-B1E5-586BDCB6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A9212-9D11-4842-ABD7-3E133BFD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0A768-BFC7-4CDC-A563-0A58BBB1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6194-503D-4927-9187-9F04C07C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9EF46-9734-4771-AE08-AC526A5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E5454-AA02-4888-84BF-5C87C7C6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7E6C2-17DE-42FB-A763-5EDEF63C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E155A-3B2E-4294-81BD-671950CE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25F63-F6B2-456C-8875-38D42850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E96A0-AF28-43E0-BD92-9CE1A3C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121CA-B280-478B-8A2C-32E7BB64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2A953-3130-4190-BDAA-7A122961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AE3C3-7405-40A5-A1C1-DDB92D6A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DB64D7-D3CB-4764-9B5F-4BDBFFF7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3A23-C335-4AAC-AEC8-EA3881FB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78517-8845-42E4-8E74-932C0A08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A3B32-30A0-434C-AD4F-77AD0B36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D7696-8B8D-482A-A1D0-FDDC7D20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8A5C5-8760-4A8B-BF95-7D037CF7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A14E8-B28A-4FD1-9F96-3839C8D1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A33C8-6307-402C-8EE7-25F2A89E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E1366-C6D4-483E-B6A6-FEFE830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B5CE9-AB7F-4B12-8631-C70BDE5F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353DC-61DB-499E-A2B9-A541563B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296F7-7948-41E4-B072-06831038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A259-505D-4B3B-8F68-A51C9E2D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A22C8-46C2-4F5B-AA63-B9F0CCF2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BB3C7-4A2E-4715-8B32-66940968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F9D223-D54C-4EEB-B7CC-23039BC5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58363-5E7A-4BEE-B854-2DE0FB11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2D3A5-F06A-4711-BFC3-B8609AC2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2DB83-9F58-4413-83EE-F5054829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0A471-AC10-4C0F-8966-2DE14657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FA1EA-A3CA-4EC5-80B1-08BF9853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B3C53-2490-4676-A2B8-44706D7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844AB-AD3E-435B-A0CC-5B639C8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24A6-0754-496D-9135-05C99E73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F5787-B6DC-42DD-A9EE-4F8D7F9D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5389B-ABF0-45EB-952C-7FDD3BFE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D82A2-D8F4-46F0-A9EC-CFD750CF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EDE0A-EC4E-4DD1-8305-01597691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44114-EDB1-46AB-930E-79EA998A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E4F93-FEBA-481D-8E67-9C6570D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922D4-2BB0-449D-A398-02239229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53CCF-32FC-47A1-A67C-4C045FBA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8F492-9276-4BF4-A1D1-B7A6EBF2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EB2AE-37D9-4F43-B5E4-42CB1422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F2F-F0CF-4B84-9CC4-13F181DF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237E-0C36-4D83-B67D-B9E5FBC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E9EE6-00D6-488E-93C1-1D553107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007FB-EB0C-492E-B714-856CF48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EA7FA-6EFE-44E1-8E99-208E875E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48E27-EBA3-4A4A-84AA-5F484A71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D6D23-D9AB-48C1-8B13-2E7CC27B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3483A-7B57-4CB0-81E5-D14B8115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E1CDA-EBBE-4A15-870F-787FBC70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60FA56-80D5-4AB2-B22D-6C6D547B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30A4D-42AF-40CD-8CA7-CDD4A8C1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FFA24-A004-4340-A4DF-3EFBC2F7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D3ED-2D05-40D3-9F50-E91BE306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6A601-8282-47A7-BF04-FDB261C4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74806-D210-4482-A8F1-6421ACC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B42E1-33B8-4214-A4C2-B1090255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C46D7-5F0C-4E14-B579-3EB1D7EC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2E24C-7368-4848-B7F9-E966AE22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A1E48-E0D7-49B4-B5A3-0D329264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221F5-A26B-4988-BAFF-BBBA77C8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9302E2-1750-4293-ADFC-38D86B79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A11CE-C1B2-4381-B2A7-86129288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A4714-85D7-445D-9ECF-F756624F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9A5E-F37B-436F-B589-1ECCDF59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AE3B1-F2EF-474E-8BB7-A922CD2D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09C7A-86C3-4071-98F4-16516BBB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3C439-AEFA-446C-AFA0-5650CCD5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8AD88-188C-45C7-88A0-27818D3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A84D8E-9CA7-4153-9463-D1687A69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9FC17C-F89B-437D-AF6C-B317AE1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1EDEA1-B4EC-4685-9D63-B2FEEC99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B6C3B-3FAC-40EA-8AB0-3EBC150E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CD2E5-72B2-4682-82AE-D89171AB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C8B316-2AE9-4D0A-8A84-78C1E740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2392-59D4-45D2-A959-26E873BF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FD6B7A-EABF-4288-AE47-7CA3BE1A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AA3E1E-53DF-4EBD-BC18-E77527D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AD04E-1B9D-4731-A11E-5E4B8048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20432-1298-427C-B16C-BA61A8C2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3488BA-7C6A-434C-8B85-51C75B6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A3DE3-3AFD-4662-A742-D34861E7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7A1446-0D2D-4C34-AE35-1A735A6B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8960FB-ABC2-4118-9AE1-A360FACB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F67B1-6982-43AB-81E2-EB2E19F2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83E87-E292-4F48-AEC0-71CE65C3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5A63-A89B-40DB-9517-D3B79E16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2D013-0EFD-4EAF-B1AB-BC69F592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B2FD87-B67B-4284-94C0-39E789C2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1BEA0F-255A-438E-A9F7-CCDBB59F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9A3959-52C7-4A13-BEB4-459F3511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4B46AB-5293-4662-8924-03BC2020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8B222-27CE-40A8-A81E-CF1A4103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E4057-B5A5-4F5D-8DA2-5CE9DC6A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99719A-D2E9-4BFE-9B99-80868CCE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FC30D-DF17-4AA0-846D-C887262A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AAD686-9773-4369-B672-914C40F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69515-F2FF-4EF3-AF59-938939EA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5B9EF5-2D56-4E7E-B0AA-D256F4B3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60EE69-0986-429D-8246-CDA35277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413E7-182E-4F3C-91BB-323DB109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F705F-55AB-486A-86D7-F137B19F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9D282D-B7E1-4065-BBEC-BFAE60F1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B1A9B4-92F0-4728-A7FA-30CD5431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747121-58EA-4D83-B77F-AEE0626A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DE027F-953D-43B2-8D27-2C62A0A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B41558-8108-4F36-AFE2-CD82F8CB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B08BF5-A435-4ABC-8F28-C7E86712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38DD-9218-4406-8D6A-86A6FD22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F93AA8-83E5-4B3B-AC86-D66F61BC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064A10-92C2-4896-AA58-2E0ACC29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3C845F-CDB3-4362-BA2F-5D2E07CB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FD1605-6B54-4F95-B222-6888075B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22E836-BD91-4C2D-A686-BD5E0EF7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DEA1D7-BF97-4F6D-B980-DABB44B8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19DE25-5973-448A-8537-713E36B4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4DE71E-55C3-4A76-B99F-09A24D64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9EF208-297D-4890-8543-864A76E5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B71C3D-ED40-4B39-A7CC-BD140FC6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6E3D-72B1-4517-B69B-195AF38F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7DA2C4-2945-4573-8027-0A4B8046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CD0A48-8D0B-4FFA-8E1D-AC7D593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8E961E-FD93-453D-AE05-0CD6402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2730D0-D1D6-4DC0-BFE5-CB55D2E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5C1AC5-ECBA-4AA9-A6D6-A912F02C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238984-E430-4885-BDA3-1869284C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45795D-9B6A-4128-AB1C-94C4BCDD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68956A-9117-4D84-9B99-3C482C49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B5ACCC-C11E-464D-8852-D6D123CD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0981D7-7090-4294-B088-8D934591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CBFC-6390-4FDC-97E7-F09CEFA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6EC35E-8F8D-46E1-9216-98EBC93C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8A7E87-D1DC-4502-BD7F-DF81C491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6848F2-8C9B-4D8A-95D7-D27A555A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DDEC28-5253-4E42-8673-691D837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FEC440-6A1C-4346-B38A-AA7FBB91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FCDD82-F797-4D0C-8653-815B37A8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E26DD4-BEBD-465F-A05E-7E91E2C8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4E5408-D61F-431F-9B42-F3563873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69CAE2-D84A-4F7A-A54C-3B6E9835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89F3E9-AD30-4C74-A6EE-3213F49D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743A-1241-4E72-9C54-25A87895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8F2D06-F682-4A77-A15B-2335F089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6F5EC5-5738-4560-BAA6-BFF62DDB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40373C-3D71-4F26-9497-F70BC05A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E42A8A-8734-415B-BD9E-A76507C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4A739A-4F05-4BF4-87C1-6CB478F1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28E5E8-6926-4393-A6F1-BF64E487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71A8A7-ABCE-4E6E-AFF3-D754AA83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99E8C8-563E-45A8-86D1-60B4CF6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4BD67E-8335-452E-A149-8E017B0B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BDBBC4-E02D-4E45-9E07-27DA049D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238-0A1C-4E30-97E3-69A8E3A9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37FA-9A38-4D5B-B10F-0A46B675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E698CE-DDCC-4B57-AB5D-D55031A4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58B05C-A086-4872-BD49-EA104722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65BE21-CEDE-4395-BE93-0EBBFD48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5D7BE0-0C40-48B0-9FE5-2D54BC3F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08FBB7-9E97-429D-8BB4-26E5FED2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1925EF-9CF2-4701-AFD3-29A6B73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A623A7-4242-4ADA-A9D9-886AD0B3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B763C4-5B37-47B3-B109-742636C9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4B4775-3300-4E86-B43E-7871F527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4A87C1-1A32-48EE-9D56-3500A240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AC00-A688-4E48-8D88-70132D8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A61FED-9724-4146-A7C7-C4ABDAC7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C942C5-74E9-49B0-84C7-123CA24C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EF6F13-0787-48B6-BD73-0D714173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47E90F-E0E4-4CEF-9F05-8C4B269C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11B8DD-E4C2-49D9-A0E1-882F2916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491315-96FD-43D3-8191-56A8C430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6E8B09-39B9-4128-8D47-D95DBAEA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1D3570-8ECC-4C04-B9DA-60984FEE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F5C8AB-3BB3-4692-BDB4-D4564211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9F561E-FA28-4E23-9612-875C908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DE90-76C3-4EE9-A041-0D58548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01D959-7018-467A-ADC9-C4DC12D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BBFAD4-72CC-4970-9DF6-9645D5D8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48C9E1-0278-4E80-B127-237FE90B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CEB49B-0104-45EC-B9D1-972F94A7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31B3FD-4B44-4467-A91E-BBD7AB89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3947BA-8800-4975-9BD6-8B2F082F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060F59-50F7-4F55-8251-1ABB446F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4458BD-1CE8-4D66-AC9C-7B764EC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A0E40E-4F4D-4C6C-BA14-8EBCD236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14B720-8CF8-48E7-8544-B5539BC4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CD471-9C03-4AAD-98AE-348E6F5A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6E05B8-EA5A-4595-BB91-17F7B3FB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FA6963-14EB-4B7F-AA4F-E3DC5BA6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E8C514-5A4F-4414-A859-E07DFC6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75A017-08FE-4DB5-BBBC-25574DD8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7456E0-06FD-4B6D-A880-1083F479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07E387-F5FE-433E-A9EE-15609081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9831A6-363C-4535-AA76-A4F148B2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2C9CA7-BEFE-478A-B614-0F9F6F51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C7C9B8-A3DB-4E5E-B5A2-13BD13C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584254-4D02-4927-86B5-E0C545D1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10BA-1AC4-482E-AD17-9E3A0F6D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6CCBDF-900C-44AE-BE71-C41C9CAD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E6C19C-B103-4B59-9A4E-A287E9A6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F77BDB-8E06-4706-BFE3-8A81B130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E10EBD-B164-4AC6-95BA-E960E574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E3FFD6-DAE8-4A6D-8FE1-C217081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773D55-4CAA-4BE4-8711-FB602A14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7A7DA9-A5BD-4AF0-B5B2-59D16D84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DC4904-7F68-428A-9487-EEBDFACC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60B9C8-2462-46E0-AF38-CD9B1433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097EAE-0D8E-4F0C-A415-95DC7221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95CE-26EA-4B2E-9790-EA0CA7C3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4A7BC2-C291-4880-AE04-A54C11D1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1E6614-1747-45D6-B1D1-74A77CA8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62A134-19F9-4C6F-9A97-8D4B443E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473D83-81CD-4E71-8648-2CF9FCF4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16D446-A961-4829-82AD-E3ACE431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F596D3-9248-4A28-986F-F7C45BED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9F1BA5-B15F-46C2-A2BC-60B4F0C2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F5C2CC-B219-4214-A0C1-35D67DF4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7FAF44-9CEE-4495-951D-9BF7D567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E11DBF-0F0C-4D69-886F-582C6532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6E10-4229-4FF5-B2F2-8032D945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4AFF5E-1DF5-4B72-80B1-27F20542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940778-F442-4875-9F4D-1A1A976C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3360CC-BF91-4038-85DC-809ABF09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F17473-C157-4F6F-B758-400D085B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F69B4D-B142-4DE0-8E97-5165CB3C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575BFC-3B62-4B6C-988B-21C5A903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FF07AB-E900-4DA2-AA51-5695369B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14AF6F-A259-4E25-A2FD-A1C2A85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B01BAD-0E22-40ED-9905-8CED6D8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E69015-3DB0-4299-B876-974B37FF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4B0F-D0FD-4A76-942F-12EFB03A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6D91D6-AE04-4195-9B4A-84554EAA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610484-E79B-40AE-AF01-72F7B026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5C3489-4AFB-405C-8EC7-AF3FD407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4450-A2D5-4030-B4F1-69495E17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55693-9962-44BC-B691-354CABC6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FBC-49DC-4127-BB11-DEC7D2C9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EA73-F527-4244-862C-08587C7B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5921-B461-4E93-A9B3-7FD3A65B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BE66-8A53-49F8-979A-9C39673F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4EC0-8526-4BA7-8CBD-5396E287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46CE3-B74E-421C-A9AA-52CD5B68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8E329-A5DA-47E3-8FA9-8A5277BF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1326-9739-43CA-A2DE-BBDF24C2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F53B-6204-4012-85B0-28B11FA6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34BF-3BC6-42F5-83DF-4AF58C6A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B48F2-7F5C-465C-A84F-EEB65376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0D2-17E4-446E-9EE3-7988B54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A0B23-915E-48D8-993F-53DAEA22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DC341-ADAD-4360-BCF6-F01C52E1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22813-FEEE-4DDB-8546-3DDCA49B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8184-614D-4C6C-A6D8-941B42C9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533C6-03E8-48E2-946D-9A89CB44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C82F8-0D4B-4816-9B46-8648D03C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1423-B339-4FCC-9565-D6648BBE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E6503-DA78-4691-A561-4B533FC0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07516-76BC-4A88-86EF-02C09777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E5711-6FF9-4124-8BAA-9D52C838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D86-C614-4BE5-ADC9-030D663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EB401-9067-441B-938C-4E176547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5E6D5-7420-4608-A84C-513986B9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5B748-B953-4313-A394-45F07692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F60F8-E43A-447A-A217-4D39E22D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9D28E-FC60-40E0-A0CC-4F62A12D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9B860-D9F6-4634-8C7F-BB2B412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C5ADC-1AD4-4FBA-9FA3-0DE28434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A7F6-A18D-42FE-9066-07BB531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1BABB-A87C-49A5-9C20-7018ED51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75921-89B6-405C-9550-13FEF8E5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08D-5F7D-4380-8B01-355EC2DB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278B-1E47-4B46-8BCB-5F87601F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6FA1D-7DA1-4F6E-95D2-EBE1A503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B3147-F04F-439A-87D9-1FCDA3B5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71691-2B42-4E85-BCD7-394803C1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B9876-FAAF-4C07-8F61-7C4D9CD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BEE7-BC59-4109-9F5D-8AFA4E13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A6E2D-9132-44DD-A33C-6AF0EB6E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40420-AEC9-41A7-97F1-85D908D1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79D16-D6B6-423D-86CD-DF698653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A5A38-8DE9-4533-B699-F42655E4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AB9-F43C-4EB4-96E2-C4615D78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5C60E-0DB4-419E-85BF-D001322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47FE8-E493-4628-827A-E768BB5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C2CA-4413-431D-AF61-4B56732B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8C523-8268-4C76-A45A-6F4710E5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85659-31EA-467D-8725-A804EC38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D5E21-C244-4846-BEC3-C2EC9101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E866F-4D5F-4967-8A7C-FFE5A43F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2DD22-B096-441C-94FF-70CF24C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C00E7-81E0-403C-B65C-9E7A3EAA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9552D-B481-4771-B246-D1CB37C4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3A3-A163-4804-B5CE-007806F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68708-0406-4718-8378-DD471A13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0E4E1-BDD9-472C-A830-25B601F8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3045E-BEC5-44C9-9CAF-94F23657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7E826-1CB0-4358-A498-CF19255C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F4788-00B3-4733-81F7-8F2BC852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29E9C-87C5-46B8-8A3B-9A42B3FF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F9EA-E263-4C74-B501-7BF72BD8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53026-0134-4649-8ECB-1B0E94E6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CEEB8-15AC-4846-9AAB-B688EFED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4BB53-1154-4A41-AB0D-4BBF6F1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B01E-8AA5-4F23-9898-B1518F5EF3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60E9-C2F1-4A62-ADF9-EBD70B9B12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1A2E-2404-44AF-A00E-DDE99F4A08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E5B5-2229-4DF2-AA97-B8593C741F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5EE-0970-4C57-8194-EC2806A755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D94D-6732-42CD-A682-57B4C29A3B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AB5F-4BDB-4F2D-9C53-0A858315F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99D6-60A3-48D7-B7F5-A9072228F1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2F11-E072-4465-A8FB-8F62518F4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948C-CC8B-4940-ABED-26E0875986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C256-32B3-4FA0-BB8F-A16C734FBF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F135-32A9-4FCD-A71E-DD80BBA395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795C-AAE3-4B5A-AB71-ABE65308F5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3E44-A9E1-49CB-BC27-9F476EB36C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5EB7-2EE6-4138-BA07-D531CC0EB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1B0D-42C3-499D-A11D-276EE70E2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BC73-6725-4761-89A7-017FA51D6D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D4A3-470A-4E78-8857-FB3EBF66A8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522D-44CD-46DA-8FF7-855051E5C4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2B46-1A8B-46E5-8C3C-AB67B1477F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C860-C23A-48A7-8616-EA6DF6771D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5B76-64F7-489E-9903-707AE1361F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924A-EDFB-4101-BC4E-E03D511BFE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F368-DCF9-4ED4-9A7F-7E572EF1F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3D2B-BE65-42CA-9669-20B163CC3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0F30-988E-46B2-B917-C282426259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E1E5-50C9-4380-8A49-54A33493A1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E38C-5425-4C27-A3BA-5EFFD9CA00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DFAF-9AE1-4C94-BBD3-B7BE4D99BC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787D-9FC8-4B08-85EC-BD3CD3E2F7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1A96-26FB-4552-A5EC-BB7E35690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47EB-79C7-4861-9544-DDF04F753B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BA0F-CB3F-4CF6-877F-2C3CA09FA3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A740-D80C-4860-8007-5B4F3010C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FBDE-5920-4BD3-B66A-9BCAE625F8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EBC3-3672-4227-8F2B-F99B43521F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CE62-71FE-496A-9325-FB2CAC5A4E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3F14-B68F-4E75-8DD5-C048E4094C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7FCC-E1AC-4959-81DD-E20345BEA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E1A-738B-493D-8F5C-4FE21F1D02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3D2D-CDEE-42C1-B4B1-F78307B00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7D2E-98B4-43CA-892D-7ADF12F61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9A87-917C-421A-85C3-2E5FACC901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B086-94F0-4509-9C29-38AC08BEB3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BBB-C163-428E-84B5-A46689BA1C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D4A8-5DD2-4CFF-A162-E7484D9341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A566-611A-45F6-81BA-1B6901045F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A26F-AE6C-4766-AE06-69F7836BA8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B816-F972-4DEC-9F2D-7023D88314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D8FA-D961-4331-A70A-2DA5D51D51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157480" y="3081240"/>
            <a:ext cx="48290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7987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48880" cy="5419800"/>
          </a:xfrm>
          <a:prstGeom prst="rect">
            <a:avLst/>
          </a:prstGeom>
          <a:ln w="0">
            <a:noFill/>
          </a:ln>
        </p:spPr>
      </p:pic>
      <p:sp>
        <p:nvSpPr>
          <p:cNvPr id="1450" name="矩形 79874"/>
          <p:cNvSpPr/>
          <p:nvPr/>
        </p:nvSpPr>
        <p:spPr>
          <a:xfrm>
            <a:off x="7885080" y="350028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78849" descr=""/>
          <p:cNvPicPr/>
          <p:nvPr/>
        </p:nvPicPr>
        <p:blipFill>
          <a:blip r:embed="rId1"/>
          <a:stretch/>
        </p:blipFill>
        <p:spPr>
          <a:xfrm>
            <a:off x="552600" y="1838160"/>
            <a:ext cx="8038800" cy="31816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78850"/>
          <p:cNvSpPr/>
          <p:nvPr/>
        </p:nvSpPr>
        <p:spPr>
          <a:xfrm>
            <a:off x="7835760" y="4113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04450" descr=""/>
          <p:cNvPicPr/>
          <p:nvPr/>
        </p:nvPicPr>
        <p:blipFill>
          <a:blip r:embed="rId1"/>
          <a:stretch/>
        </p:blipFill>
        <p:spPr>
          <a:xfrm>
            <a:off x="552600" y="2052720"/>
            <a:ext cx="8038800" cy="275256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04451"/>
          <p:cNvSpPr/>
          <p:nvPr/>
        </p:nvSpPr>
        <p:spPr>
          <a:xfrm>
            <a:off x="2903400" y="3841920"/>
            <a:ext cx="804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04452"/>
          <p:cNvSpPr/>
          <p:nvPr/>
        </p:nvSpPr>
        <p:spPr>
          <a:xfrm>
            <a:off x="2141640" y="4356000"/>
            <a:ext cx="804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03425" descr=""/>
          <p:cNvPicPr/>
          <p:nvPr/>
        </p:nvPicPr>
        <p:blipFill>
          <a:blip r:embed="rId1"/>
          <a:stretch/>
        </p:blipFill>
        <p:spPr>
          <a:xfrm>
            <a:off x="547560" y="1604880"/>
            <a:ext cx="8048880" cy="364824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03426"/>
          <p:cNvSpPr/>
          <p:nvPr/>
        </p:nvSpPr>
        <p:spPr>
          <a:xfrm>
            <a:off x="2881440" y="43624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03427"/>
          <p:cNvSpPr/>
          <p:nvPr/>
        </p:nvSpPr>
        <p:spPr>
          <a:xfrm>
            <a:off x="6615000" y="4362480"/>
            <a:ext cx="693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0240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20080" cy="586764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02402"/>
          <p:cNvSpPr/>
          <p:nvPr/>
        </p:nvSpPr>
        <p:spPr>
          <a:xfrm>
            <a:off x="2239920" y="2959200"/>
            <a:ext cx="892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02403"/>
          <p:cNvSpPr/>
          <p:nvPr/>
        </p:nvSpPr>
        <p:spPr>
          <a:xfrm>
            <a:off x="4113360" y="3416400"/>
            <a:ext cx="674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02404"/>
          <p:cNvSpPr/>
          <p:nvPr/>
        </p:nvSpPr>
        <p:spPr>
          <a:xfrm>
            <a:off x="3187800" y="3927600"/>
            <a:ext cx="80784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01377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039160" cy="27144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01378"/>
          <p:cNvSpPr/>
          <p:nvPr/>
        </p:nvSpPr>
        <p:spPr>
          <a:xfrm>
            <a:off x="4395960" y="28717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01379"/>
          <p:cNvSpPr/>
          <p:nvPr/>
        </p:nvSpPr>
        <p:spPr>
          <a:xfrm>
            <a:off x="5516640" y="33400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01380"/>
          <p:cNvSpPr/>
          <p:nvPr/>
        </p:nvSpPr>
        <p:spPr>
          <a:xfrm>
            <a:off x="1390680" y="4233960"/>
            <a:ext cx="12366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00353" descr=""/>
          <p:cNvPicPr/>
          <p:nvPr/>
        </p:nvPicPr>
        <p:blipFill>
          <a:blip r:embed="rId1"/>
          <a:stretch/>
        </p:blipFill>
        <p:spPr>
          <a:xfrm>
            <a:off x="566640" y="1414440"/>
            <a:ext cx="8010720" cy="402912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00354"/>
          <p:cNvSpPr/>
          <p:nvPr/>
        </p:nvSpPr>
        <p:spPr>
          <a:xfrm>
            <a:off x="2141640" y="3645000"/>
            <a:ext cx="77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00355"/>
          <p:cNvSpPr/>
          <p:nvPr/>
        </p:nvSpPr>
        <p:spPr>
          <a:xfrm>
            <a:off x="7334280" y="4548240"/>
            <a:ext cx="909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9329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20080" cy="5705640"/>
          </a:xfrm>
          <a:prstGeom prst="rect">
            <a:avLst/>
          </a:prstGeom>
          <a:ln w="0">
            <a:noFill/>
          </a:ln>
        </p:spPr>
      </p:pic>
      <p:sp>
        <p:nvSpPr>
          <p:cNvPr id="1471" name="矩形 99330"/>
          <p:cNvSpPr/>
          <p:nvPr/>
        </p:nvSpPr>
        <p:spPr>
          <a:xfrm>
            <a:off x="1116000" y="4508640"/>
            <a:ext cx="2117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图片 99332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4581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98305" descr=""/>
          <p:cNvPicPr/>
          <p:nvPr/>
        </p:nvPicPr>
        <p:blipFill>
          <a:blip r:embed="rId1"/>
          <a:stretch/>
        </p:blipFill>
        <p:spPr>
          <a:xfrm>
            <a:off x="557280" y="919080"/>
            <a:ext cx="8029440" cy="5019840"/>
          </a:xfrm>
          <a:prstGeom prst="rect">
            <a:avLst/>
          </a:prstGeom>
          <a:ln w="0">
            <a:noFill/>
          </a:ln>
        </p:spPr>
      </p:pic>
      <p:sp>
        <p:nvSpPr>
          <p:cNvPr id="1474" name="矩形 98306"/>
          <p:cNvSpPr/>
          <p:nvPr/>
        </p:nvSpPr>
        <p:spPr>
          <a:xfrm>
            <a:off x="1116000" y="2708280"/>
            <a:ext cx="2117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5" name="图片 98307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48765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7281" descr=""/>
          <p:cNvPicPr/>
          <p:nvPr/>
        </p:nvPicPr>
        <p:blipFill>
          <a:blip r:embed="rId1"/>
          <a:stretch/>
        </p:blipFill>
        <p:spPr>
          <a:xfrm>
            <a:off x="552600" y="838080"/>
            <a:ext cx="8038800" cy="518184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7282"/>
          <p:cNvSpPr/>
          <p:nvPr/>
        </p:nvSpPr>
        <p:spPr>
          <a:xfrm>
            <a:off x="4567320" y="5483160"/>
            <a:ext cx="941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6" descr=""/>
          <p:cNvPicPr/>
          <p:nvPr/>
        </p:nvPicPr>
        <p:blipFill>
          <a:blip r:embed="rId1"/>
          <a:stretch/>
        </p:blipFill>
        <p:spPr>
          <a:xfrm>
            <a:off x="538200" y="1847880"/>
            <a:ext cx="8067600" cy="316224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8"/>
          <p:cNvSpPr/>
          <p:nvPr/>
        </p:nvSpPr>
        <p:spPr>
          <a:xfrm>
            <a:off x="4427640" y="36450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96257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419960" cy="4743360"/>
          </a:xfrm>
          <a:prstGeom prst="rect">
            <a:avLst/>
          </a:prstGeom>
          <a:ln w="0">
            <a:noFill/>
          </a:ln>
        </p:spPr>
      </p:pic>
      <p:sp>
        <p:nvSpPr>
          <p:cNvPr id="1479" name="矩形 96258"/>
          <p:cNvSpPr/>
          <p:nvPr/>
        </p:nvSpPr>
        <p:spPr>
          <a:xfrm>
            <a:off x="3782880" y="2009880"/>
            <a:ext cx="941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6259"/>
          <p:cNvSpPr/>
          <p:nvPr/>
        </p:nvSpPr>
        <p:spPr>
          <a:xfrm>
            <a:off x="6951600" y="2543040"/>
            <a:ext cx="644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6260"/>
          <p:cNvSpPr/>
          <p:nvPr/>
        </p:nvSpPr>
        <p:spPr>
          <a:xfrm>
            <a:off x="3924360" y="4664160"/>
            <a:ext cx="42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96261"/>
          <p:cNvSpPr/>
          <p:nvPr/>
        </p:nvSpPr>
        <p:spPr>
          <a:xfrm>
            <a:off x="1279440" y="5221440"/>
            <a:ext cx="1060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95233" descr=""/>
          <p:cNvPicPr/>
          <p:nvPr/>
        </p:nvPicPr>
        <p:blipFill>
          <a:blip r:embed="rId1"/>
          <a:stretch/>
        </p:blipFill>
        <p:spPr>
          <a:xfrm>
            <a:off x="571680" y="95256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94209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410240" cy="5219640"/>
          </a:xfrm>
          <a:prstGeom prst="rect">
            <a:avLst/>
          </a:prstGeom>
          <a:ln w="0">
            <a:noFill/>
          </a:ln>
        </p:spPr>
      </p:pic>
      <p:sp>
        <p:nvSpPr>
          <p:cNvPr id="1485" name="矩形 94210"/>
          <p:cNvSpPr/>
          <p:nvPr/>
        </p:nvSpPr>
        <p:spPr>
          <a:xfrm>
            <a:off x="2325600" y="1336680"/>
            <a:ext cx="941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94211"/>
          <p:cNvSpPr/>
          <p:nvPr/>
        </p:nvSpPr>
        <p:spPr>
          <a:xfrm>
            <a:off x="6526080" y="1346040"/>
            <a:ext cx="1214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4212"/>
          <p:cNvSpPr/>
          <p:nvPr/>
        </p:nvSpPr>
        <p:spPr>
          <a:xfrm>
            <a:off x="3108240" y="2924280"/>
            <a:ext cx="1214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94213"/>
          <p:cNvSpPr/>
          <p:nvPr/>
        </p:nvSpPr>
        <p:spPr>
          <a:xfrm>
            <a:off x="1979640" y="501336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94214"/>
          <p:cNvSpPr/>
          <p:nvPr/>
        </p:nvSpPr>
        <p:spPr>
          <a:xfrm>
            <a:off x="7191360" y="5057640"/>
            <a:ext cx="7621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93185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524720" cy="3190680"/>
          </a:xfrm>
          <a:prstGeom prst="rect">
            <a:avLst/>
          </a:prstGeom>
          <a:ln w="0">
            <a:noFill/>
          </a:ln>
        </p:spPr>
      </p:pic>
      <p:sp>
        <p:nvSpPr>
          <p:cNvPr id="1491" name="矩形 93186"/>
          <p:cNvSpPr/>
          <p:nvPr/>
        </p:nvSpPr>
        <p:spPr>
          <a:xfrm>
            <a:off x="7386480" y="3251160"/>
            <a:ext cx="941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93187"/>
          <p:cNvSpPr/>
          <p:nvPr/>
        </p:nvSpPr>
        <p:spPr>
          <a:xfrm>
            <a:off x="1258920" y="3795840"/>
            <a:ext cx="7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93188"/>
          <p:cNvSpPr/>
          <p:nvPr/>
        </p:nvSpPr>
        <p:spPr>
          <a:xfrm>
            <a:off x="1628640" y="4329000"/>
            <a:ext cx="1143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42880" y="1852560"/>
            <a:ext cx="8058240" cy="315288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3"/>
          <p:cNvSpPr/>
          <p:nvPr/>
        </p:nvSpPr>
        <p:spPr>
          <a:xfrm>
            <a:off x="7834320" y="36561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552600" y="1576440"/>
            <a:ext cx="8038800" cy="3705120"/>
          </a:xfrm>
          <a:prstGeom prst="rect">
            <a:avLst/>
          </a:prstGeom>
          <a:ln w="0">
            <a:noFill/>
          </a:ln>
        </p:spPr>
      </p:pic>
      <p:sp>
        <p:nvSpPr>
          <p:cNvPr id="1438" name="矩形 86018"/>
          <p:cNvSpPr/>
          <p:nvPr/>
        </p:nvSpPr>
        <p:spPr>
          <a:xfrm>
            <a:off x="7813800" y="25131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84993" descr=""/>
          <p:cNvPicPr/>
          <p:nvPr/>
        </p:nvPicPr>
        <p:blipFill>
          <a:blip r:embed="rId1"/>
          <a:stretch/>
        </p:blipFill>
        <p:spPr>
          <a:xfrm>
            <a:off x="538200" y="1171440"/>
            <a:ext cx="8067600" cy="451512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4994"/>
          <p:cNvSpPr/>
          <p:nvPr/>
        </p:nvSpPr>
        <p:spPr>
          <a:xfrm>
            <a:off x="4035600" y="25891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3969" descr=""/>
          <p:cNvPicPr/>
          <p:nvPr/>
        </p:nvPicPr>
        <p:blipFill>
          <a:blip r:embed="rId1"/>
          <a:stretch/>
        </p:blipFill>
        <p:spPr>
          <a:xfrm>
            <a:off x="547560" y="1519200"/>
            <a:ext cx="8048880" cy="381960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3970"/>
          <p:cNvSpPr/>
          <p:nvPr/>
        </p:nvSpPr>
        <p:spPr>
          <a:xfrm>
            <a:off x="7791480" y="28400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2945" descr=""/>
          <p:cNvPicPr/>
          <p:nvPr/>
        </p:nvPicPr>
        <p:blipFill>
          <a:blip r:embed="rId1"/>
          <a:stretch/>
        </p:blipFill>
        <p:spPr>
          <a:xfrm>
            <a:off x="757080" y="1847880"/>
            <a:ext cx="76298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81921" descr=""/>
          <p:cNvPicPr/>
          <p:nvPr/>
        </p:nvPicPr>
        <p:blipFill>
          <a:blip r:embed="rId1"/>
          <a:stretch/>
        </p:blipFill>
        <p:spPr>
          <a:xfrm>
            <a:off x="331920" y="1684440"/>
            <a:ext cx="8038800" cy="39060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81922" descr=""/>
          <p:cNvPicPr/>
          <p:nvPr/>
        </p:nvPicPr>
        <p:blipFill>
          <a:blip r:embed="rId2"/>
          <a:stretch/>
        </p:blipFill>
        <p:spPr>
          <a:xfrm>
            <a:off x="792000" y="2157480"/>
            <a:ext cx="7620120" cy="271440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1923"/>
          <p:cNvSpPr/>
          <p:nvPr/>
        </p:nvSpPr>
        <p:spPr>
          <a:xfrm>
            <a:off x="7562880" y="26226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0897" descr=""/>
          <p:cNvPicPr/>
          <p:nvPr/>
        </p:nvPicPr>
        <p:blipFill>
          <a:blip r:embed="rId1"/>
          <a:stretch/>
        </p:blipFill>
        <p:spPr>
          <a:xfrm>
            <a:off x="542880" y="1190520"/>
            <a:ext cx="8058240" cy="447696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0898"/>
          <p:cNvSpPr/>
          <p:nvPr/>
        </p:nvSpPr>
        <p:spPr>
          <a:xfrm>
            <a:off x="7823160" y="155592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2:03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